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7F190-E9B4-4802-A0A9-36F40D26C6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3A411-BD43-49C1-9651-B155050FB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E5C3-B7C4-47DE-BC01-306C8C76B1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96F10-8BDA-43EF-8D22-20653BF3E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940EC-A53A-4884-8C1D-2184A258BD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862CA-1FCA-44FD-9320-33FFFFBFE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4CAB-A995-45ED-AFF5-E3E7B33A0E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48CFE-B315-4BC6-A18C-C0DF8A38D3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B9FC-63E8-42A2-BD6E-3D9F7928F6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A35FD-A36D-4A11-BF9A-030E92DA8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AEE4B-6F4C-49F5-8CB8-08C1F78B8D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AFD6E-F9DE-4661-95C9-EF3E3F9DEE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2508C-88C1-44B5-B1E5-683F145590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D7AA0-63AE-42A9-BA70-56080FEFDF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09B52-4969-40BE-A706-7C3E43FA5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453B-CB6B-47FB-BD4F-2373EA7CB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04790-235E-499B-BE57-FFACD4B7A1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8343-BF96-4FB2-B68C-00C2268DB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EE141-12FD-4FA4-9CAB-26F446EE30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46A34-F498-4A47-AA72-916A226A4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87E4E-BFE5-450B-982F-9561A29A99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14DFC-00FC-477F-8199-CBDA2781DA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2A088-710C-4891-A805-FA66FDB034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D78BA-AF70-40C5-882B-F6D0F28B91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B7D18-F4CD-4E50-8F94-AA403606EF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3A8989B-9986-4381-A139-CCDFEDFC65B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41335A-6535-42AB-85B1-4A2E87344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DB3E5848-FE09-4064-A018-7A51EE8AF4B2}"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B4CF9F9B-AE27-475F-B34B-577854C310D2}"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3707EB65-4BF8-4B77-9555-45571D008AA3}"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4A90D789-0A42-4501-8940-C958A503EFB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36A023ED-1B57-4818-8A55-DED97444BA8C}"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7C47BC38-6F45-4F33-96BB-4521CE50E3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C416AB18-3B29-4554-8386-E3CBDE36F28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A7A1690-22BA-4CE9-89DB-FA8976FDC3FF}"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14D5DD4D-CF35-4479-A59C-9F62387B5568}"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B1EB8BF7-AFF9-416E-AD64-EEF6A7CB2E95}"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906997C-EC65-452C-883D-51AA0F187D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16AB285-7E75-453E-8BFE-239DF164B6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BB360E74-FAA0-42C4-9FDD-034B62B4FF3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F75B4A8-2B6E-47A0-AB94-EDFA8A562C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85E65488-CDB2-4CE4-A9FE-DF06496FAA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E19988E5-8DDD-46E2-8C7C-022005FD9D6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9AFD0797-E69B-4288-B83A-F09E879038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59923F7D-A56F-40EB-84F5-2AB196A171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F67E3041-6665-40EC-80BA-084C5FEAC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F121B099-FD95-4E57-9D19-D6FE28CC3C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37A3BBFE-B00C-404F-AE72-89CE173F46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DE92AF94-BF0E-4ADA-846B-0DCF72FAD5B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52D4C2E1-A7C1-4B60-AED0-24407235EA07}"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44BDABDD-030D-4AF6-B9E5-17500D5DAE83}"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AAC747D7-8D7F-42F4-BBED-2B1EFA50CFA5}"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9404E397-9349-4F78-BD99-4972CCDCF1E7}"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371D013A-E731-4480-ADBC-7BD67AECA9B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CEEB789-EA2A-4B93-95FE-F12AD6F0D56C}"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86045722-9FC5-452B-AFBB-1F71E85B4E36}"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2A4D5988-68D4-470E-B332-F97C48D3F5F7}"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63332BB-0936-4833-BE2A-A13E85B38B8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F2F5ABAA-7012-42CD-8E40-2E6ABB974F7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1817772-8054-4A8B-ABB6-38DB0F95389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8B82656B-90EB-4D0F-9696-5D3DF367061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9CE48DAB-9E12-49C1-9A48-E37A4DDECB09}"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7F6AE569-7AEC-4089-A821-6B49F064A88A}"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63ED4A18-E199-4AF1-846D-00D5E69136CD}"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4FDD91AC-7BD4-4B4D-9E07-FAE54D452419}"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7BCF32F-013E-4C74-9C84-EAF6A9E6232F}"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19F8E250-FB06-43CC-9077-E33AB06A4088}"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03F9EFE7-A045-4B7F-A21B-65B3306447A0}"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67B9A5CB-3029-44DF-8483-A18B7B0167EC}"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62212EBF-670C-461E-BF56-2B155FD8CF1D}"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9D3CF05-673F-472C-AE1A-ECD17ACA30A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2C096C1E-0124-416F-BE37-6CAB33456D5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3A0DCA7-B461-4BD0-A4B5-251BD6A3F7E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A8285054-07DB-496D-A348-BD67AE0B616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AF007273-5A47-41A4-91FC-F28ACC205B53}"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C56D50BA-7B0E-4F26-8044-210F44977FFA}"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14F3E77-835A-4B01-9E51-51E75FBCF334}"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6AA9EEF-048D-4229-89EE-65D0BBBBEC7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62548026-38FC-4481-AA38-BA598C062FE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38DC1099-63EE-4C8C-A49B-5865B88E64F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1A9A0A53-6DB2-4584-B460-A296A28D1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5E068D-FFA5-4194-BE92-A5EF3EDD01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C5564ED1-8E57-4260-9773-84C7B4E1C36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04AE5A42-20EF-4DF7-BC49-FE6102A5CE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26909551-62AA-4272-98EC-CDF7181B4E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E1F5DB30-B7D9-49C2-BE36-8056FD621B2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ED34C6C2-9735-4063-9445-80AC22157C4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E5324530-8631-491C-9C12-8AF4DCEEEF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0703714E-F36E-4265-8AC9-98DA4361D15F}"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6A1BCEA1-8249-464D-8B79-17FBB278FAA7}"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7D3CBC29-BCB1-42B4-BB0F-5E08BE48A69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9EDEC721-D86A-4F90-BF5A-C4FDACC57DE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6D0819-E17C-4F5A-A457-BE786CA5C1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13A90E3-A6FF-4B9B-9919-F9827D02108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1CF31BEA-5532-42A0-9B68-89E7DE865752}"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BA97C6FC-E4C1-4E35-964C-3533338F89C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2D6575D-3440-484B-BA75-E9B69F5A9E8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051B582-07EF-4701-9BD2-2A9B1D01F9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F6CF78ED-AB2E-4DF6-8EE5-C3DE10DB832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5FFAF65-C700-417D-B328-F941ECEDA5B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FB0ADE41-A4E0-4A3F-9780-90824497C828}"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9DF4CEBA-E7AE-4CE5-80D0-14336AF1D027}"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E5C4513C-5CA3-4172-9E87-EFED8040D5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23F21956-487D-45EE-A67C-5B62A94802F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6B5040-7D54-4059-9C77-3745D374FE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3E3F2B-47D7-4C1D-9983-B2B1BBE1B9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1C81F5-41BD-460C-A284-186E54D6C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733D14-8009-4B3A-BFE7-C535CA9289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482A5B1-8E7B-4637-B32B-992D3102228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B976B98-71E9-408B-AC6A-1358DD18E4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62B0074-7026-4587-84B5-9A0F3BBB16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FE70BD-F9BE-4D20-92CF-412491F005EA}"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54755031-D1E1-44B1-9374-42415DCCE510}"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01064ACE-A904-434A-82D7-F2FDCE407A0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700A650-D41C-4418-B0DA-382FA64E94D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DACC1F6E-96A0-4C01-822F-4FED29958E8D}"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A5BF51-C0B1-4337-8DE7-72820E73FD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AFB31F62-027A-414D-961E-E80ADE516B73}"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8B6062A6-D217-4C88-8A15-000C4189D9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DF1A61F6-5C61-4F91-AE7A-33B6E4F335B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E587DFF-4F91-4779-A6E6-41E33DAF15A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F198ECC9-B367-44D3-864D-2F7AD75F9F8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11C677E5-2D05-4996-A223-ABEF9776EF0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F30CCC8E-9701-4809-88DF-A7991A24D52A}"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5F1DBA61-2744-4B27-9113-40777476296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EE642D97-DEA0-4DF3-B697-6B1DBAFDA2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047F8B5F-39B7-4FBD-86BE-CFC79B063B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6998280-13C4-43C3-B78F-6E667EBB8F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102E8171-4D1E-44B6-B279-7BCEE45279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758CCE61-8C03-46EB-9232-3E79E00E8E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E2F03E4-33EE-4A48-8224-BEA79C2B6F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C76510C2-8F40-46AA-9474-2FAA8ED2E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F06DF09-8CD1-46E9-96DB-5752D32572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DEBFABDA-81D2-409A-8BE2-321A6B57DD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7954B65C-3434-4AEB-9AFE-21E0B76AB6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345E0C8F-AB47-4DDB-A467-1EA00026F2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B9027297-E603-4F8E-8733-627ADF15EA9B}"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F09B9C61-C85B-4879-B5E1-34CB97C7878F}"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DB796A77-20FD-4BCE-9B9D-791EE37EF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976608CB-08FC-4F42-9F7A-09A20E65861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643F8E29-ED12-4AE9-BB6D-20E415EF75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14AEE0FE-7352-4F78-8311-683792E3DDA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2E8B9863-CA93-4AEE-A98F-40258B58B70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89E98BB9-F060-4D3C-9465-E359F4A29F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95F17046-AE90-4CEC-816F-9E1E346806A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E1F0311-080B-487C-B09C-93F340B1854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84896685-CA57-4A76-AF47-BA2BE6F95E6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82AC989A-EA70-46C0-B350-71F847AC1089}"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A5836DC4-97B7-47CB-A4E2-9BC1AF2363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EFD9D87-3CD2-4E83-A23C-118CE9B0B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5101EFA6-A352-4128-B5B5-E8A757FAC33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CA8BEC3-7121-4031-AFA7-9E77020DA42E}"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D35E48BF-C64E-4EFD-BC2B-2F799622151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07DA9FB-1374-4A9A-B29E-FC90970732B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E6779107-B5C0-4B70-824E-4617A77982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7F1149B7-EF30-4145-888F-C2A48EB36DFB}"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0C50EDEF-2222-4781-9A71-1C2FC38B508D}"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CF195BD1-EFD5-42A1-8695-959013F111C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44210141-0A95-4DCC-B3DF-3DC4C08EE16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6B5F014A-F024-4FCE-9D47-FC536BF2D89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74F2219-5CF9-4483-AC63-64A361DA9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0E2E7ADC-6DC6-476D-B893-BE40CF7DFE25}"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7697973F-8FE7-4C2E-BE0A-8D3A1FA7D35C}"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2C3553D3-EE44-4467-BAD6-3CE67CAD8920}"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4732136-37A8-4F9F-8B43-9BFCE727533E}"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54AF09BC-36FE-4C37-927C-E415F5E7EE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9B7EA13C-60E9-495F-A28E-0288E9F49AC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0AB60AAD-91F2-4059-A35A-AB7BC45914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1756EDF8-5A3F-4B57-B418-D742BB6DDFD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9128333-639A-4209-B0EB-568D7D2807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15934918-870B-488D-99AC-94CA1DA85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1665B6A-F360-4C64-9C81-FFAB20957B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C984BB52-5662-4119-BC91-51FD31E956F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EBE91B9F-A62D-445F-972D-0E2437DD3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967CCB37-5BF1-4D5C-B4F8-2680F64DBC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F89DC0AF-D076-4532-9546-1B52A9915C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34344610-F575-49D9-807A-76FB5CF0461C}"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6D54F84-B024-488B-AACE-A2AAD983D003}"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43577CF-852C-421A-B394-029AF21B39D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C96FA940-20F8-456B-A16B-7561C22A83A9}"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353E670E-AA22-469D-97BA-95691CD7A7F2}"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72C14D79-38AB-4B13-A368-12BA9252193F}"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B6DEA46-C0DC-4225-8E1E-F5D2497C0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0D0A0150-1C72-4DFF-AC55-9928C755CA1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59D8E96F-B7E5-46FA-BCD8-71BE8126A9A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B17354B8-D21F-4057-9F91-1CC84CAC276B}"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C1EDA3A-3646-40E1-B7F4-54192705457C}"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85D10EC-0BE4-4588-8F0B-EF4FFFB2AF54}"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23749FD2-DA96-4C2E-A89B-B087D336295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17AC8A2B-B2A6-4A4E-B3BC-AC90910C594D}"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0AE256F8-A51D-4DD2-9065-808C71FF0398}"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2F69DF58-BBEA-4D6D-8D36-E28DB3DD0BCB}"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6C59AA0B-6F6A-4000-89B2-D7238199F0D7}"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DAEB-DD95-4F64-B3A0-3FAED0E2D9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26F71-341E-4796-8565-8DDD1B693E3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3A880-FC84-4388-853F-41C67139FDE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42F0-AEDB-490F-B70A-921009A403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CDC0-73D4-44DA-8A4E-249CF422BB4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7A204-30F4-41BD-A09E-6B5B806377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1487-D02D-4DC6-ADFE-EA31B1F8D4B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13416-72DE-45BC-A126-CCBD334531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93194-E320-44B5-B35F-945EEFBF083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B0B44-3272-4883-B6E7-6B1ED93570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3BC52-B266-4E11-8C48-D16F3343D5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6459C-F5EE-4B88-93EA-D208F75DFB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979F3-8E49-4428-A379-F02A213686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9E633-7DFE-413D-93E0-1A917062D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31132-54DD-458E-BBB7-4BBDCB591DF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040C9-0A55-4B85-B5AB-E48152B54E0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741BD-5159-4D5B-8D10-069AD67B5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4F237-E18E-4779-A7C4-339B9C4A955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A719C-DAFF-4C93-B243-8677DA02B5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12169-4268-4E40-9081-75C9BD9FCD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3BD7-7D83-4B8F-AC8F-30FCE61DA4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FE554-A1DD-46FA-ADEA-4CCED9DD8D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8454-CD9E-404A-98F7-3AB77E3669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9DD53-9012-4FD6-9546-B8D36D3D06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D4447-A4FE-49CD-A96F-91BD53C9065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09571-FBF6-4518-9B59-5FD5392252B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DCA98-511B-4AF7-9557-448C366C5D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B16F-28C4-4766-991A-0E159E2459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410CD-16A1-486B-99B0-C479D8E142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1B339-3D9E-48C5-8E2B-4418B4BFE6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61786-318F-4238-AAD5-9718238716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1FF6C-E5BF-4A1A-AE43-1F9DE35BBE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A83-8D83-412E-9CDF-805D05E905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2CE65-A54B-4C33-9BCA-3CE6E5A3E3F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9C45-6D91-422B-B054-D816EADAD2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EC6DE-32C9-4120-9C32-7502D571D8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D2CB6-4B62-45BC-B4D4-6D7B62111C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171D4-9A6A-4FB3-B47E-4B1BEE429F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